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5674E-6809-4419-89AE-A12EFF82F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A5C52-FDD2-4C79-9228-E383E4D86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4C1CF-BE65-4F38-AF00-C90B3832C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80C5E-7444-4C9C-86DB-021CD10A2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0B046-5A7D-4411-B419-4F0AACF0F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E874F-1975-4528-8806-0643F53F9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40634-FDA4-408C-BF32-A21E0F8EA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224E1-0754-4C7B-91EE-BCC8B3451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8FFB9-91C7-4444-843E-5A87E744C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9A15C-7327-4B9B-B1B7-F6E5A81B6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70909-6B1C-44CA-94F8-6BBE7815F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BBC7D-D4AE-479F-9F5B-F351C7A76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98E29-1125-4729-89F8-4C5895B97B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 Fun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tate the thesis, but restat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 prov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There is nothing left to argue; you have proven it to be tru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 t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ve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is one of the following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ev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l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in the conclusion that you fully explain why this paper was worth reading and writing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" dur="1000"/>
                                        <p:tgtEl>
                                          <p:spTgt spid="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1T11:24:56Z</dcterms:created>
  <dc:creator>Administrator</dc:creator>
  <dc:description/>
  <dc:language>en-US</dc:language>
  <cp:lastModifiedBy>Administrator</cp:lastModifiedBy>
  <dcterms:modified xsi:type="dcterms:W3CDTF">2010-10-21T12:54:31Z</dcterms:modified>
  <cp:revision>3</cp:revision>
  <dc:subject/>
  <dc:title>Slide 1</dc:title>
</cp:coreProperties>
</file>